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EF02-2C3B-4414-8673-27918D41A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ECF5-E7C7-4D45-835A-207AA3E3A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F7FF-F89E-4F7E-94DA-97F92A355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1D0E-F997-406A-B29F-18E73E61F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89A5-CEB7-4D09-8FDF-B9ACCC62A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6E1A-3A2C-48CB-81C6-6467059B6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EF21-2A89-4173-A8D0-34DF4E210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BFCE-0D36-4B63-A750-809EA9C04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D170-F439-4781-92EA-88A4599A4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59AA-F2D1-4B56-8E90-AD0181E6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C9FE-FD8D-4CE3-8F6C-E35EE1F4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DF83-B1AD-4956-B6E8-EBEB33B3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8A52F-1115-4754-95A9-6B2E19F6FE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Interpreting a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Confidence Interva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7315200" cy="3181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066680" y="4267080"/>
            <a:ext cx="73152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238880" cy="24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238880" cy="2412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905120" y="4038480"/>
            <a:ext cx="48765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781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781680" cy="25146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066680" y="4114800"/>
            <a:ext cx="67057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693396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6934320" cy="28195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914400" y="4114800"/>
            <a:ext cx="68580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467840" cy="52578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858000" y="5562720"/>
            <a:ext cx="14479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467840" cy="309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38080" y="3809880"/>
            <a:ext cx="7467840" cy="1371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24880" y="5257800"/>
            <a:ext cx="822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w do we interpret this confidence interval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7724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5438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777240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7315200" cy="1143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14400" y="2438280"/>
            <a:ext cx="7315200" cy="1600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914400" y="4572000"/>
            <a:ext cx="7315200" cy="1828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20160" y="1905120"/>
            <a:ext cx="1288800" cy="581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i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20160" y="4038480"/>
            <a:ext cx="566280" cy="581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72200" y="252900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9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164360" y="464832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43000" y="2209680"/>
            <a:ext cx="68580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3915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543800" cy="1917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7543800" cy="11304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85800" y="4343400"/>
            <a:ext cx="7543800" cy="15620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685800" y="3733920"/>
            <a:ext cx="75438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1-03T00:04:03Z</dcterms:modified>
  <cp:revision>46</cp:revision>
  <dc:subject/>
  <dc:title>PowerPoint Presentation</dc:title>
</cp:coreProperties>
</file>